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855-CD22-4869-9610-CA912F72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E7A-B8C2-429B-8E43-8EC8A8D4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4A4-C3F0-4E93-B115-5DF8ECD4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CF6-7C3F-4200-986E-373227AA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E78A-62C8-4666-85E4-A0151DDB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18F3-EA38-4347-BC9B-2CB201E8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52D8-36FF-4F1C-9879-C5FCB61B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5B99-E503-4AFD-ACEF-2B76368C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4AD2-8479-4A65-BF10-6BE1BBC4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9A5F-6FF8-4BA9-B9C0-FCC1F8D5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2F3D-AE71-47CC-9166-DBCDF96B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B1F-E8E1-400A-AF3A-40E0A5EC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B8D0-33AE-47D4-85A8-76053CEB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3B85-E1D6-4337-B89B-9B91E3E2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F287-D646-41CB-BA63-7BC04A4C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1691-FC3F-47F4-BB80-46022E8C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1F3A-06E3-426D-A1D5-7FA345F6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F7B0-F5D7-433A-B2B1-B677ACF5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D05B-7DCB-44AA-AAC0-325C985E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40B-2BD0-4C6E-A2D9-33AF781B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D69-31B8-4598-81C8-0F310319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38D-46A0-482C-A20B-22DEAFE7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2FB-429C-4527-BD7E-343AF521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8BE-92A9-43F7-BCBA-B4789A76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2249-638E-4BA5-8E26-71C207A65FC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5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622100"/>
                </a:gs>
                <a:gs pos="100000">
                  <a:srgbClr val="3b1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7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6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3D89-7F14-4BAF-A130-2399C04CB7A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1143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Divided Kingdom, Part 2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Judah Alon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ook of Jona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uarter 7, Lesson 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Pages 88-91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Sign of Jona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tthew 12:40-41 (KJV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rist said,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as Jonah was three days and three nights in the whale's belly; so shall the Son of man be three days and three nights in the heart of the earth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en of Nineveh shall rise in judgment with this generation, and shall condemn it: because they repented at the preaching of Jonah; and, behold, a greater than Jonah is he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Sign of Jona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uke 11:29-30 (KJV)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d when the people were gathered thick together, he began to say, This is an evil generation: they seek a sign; and there shall no sign be given it, but the sign of Jonah the prophe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as Jonah was a sign unto the Ninevites, so shall also the Son of man be to this gener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member This.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d is immutable (unchangeable)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 will act today on the same principles he acted on in the pa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d evil Nineveh receive a sig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did they come to know God’s wor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 we expect a sign from Chris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are we to find out God’s word toda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ssons Learned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annot hide from Go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d hears prayers no matter where we 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d is always just in the affairs of 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things don’t go our way, don’t get ang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life’s comforts are taken away, don’t get angry – there are more important things in lif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Jonah the Prophet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h was from Gathhepher, a village in the area of Galilee -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 Kings 14:25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h prophesied during the reign of Jeroboam II about 786 – 746 B.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mporary with Amos, Hos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ce powerful Assyria is now in period of decline and very wick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95288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2b00"/>
                </a:solidFill>
                <a:latin typeface="Arial"/>
              </a:rPr>
              <a:t>Nineve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0400" y="2895120"/>
            <a:ext cx="19810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666880"/>
            <a:ext cx="9144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27432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27432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514600" y="2895480"/>
            <a:ext cx="243828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Jonah Runs From God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pter 1:1-14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tells Jonah 1:2 “Arise, go to Nineveh, that great city, and preach against it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h took a ship to Tarshish to run away from the presence of Go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ip is beset by a fierce storm sent from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ilors cast lots and find out cause of st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Jonah Runs From God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pter 1:15-17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h cast into sea - swallowed by giant fis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as calm and sailors sacrifice to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h remains in the fish 3 days and 3 nigh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onah’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Prayer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pter 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h calls out to God from the belly of the fis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lls how he was cast into the deep and driven from God’s sig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et God brought up his life from the p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says with the voice of thanksgiving he will sacrifice to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cludes: “Salvation belongs to the Lord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Jonah Runs To God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pter 3:1-4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commands Jonah a second  time, Go to Nineveh and prea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time Jonah arose and went to Nineveh, an exceedingly great city, three days journey in bread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h calls out “Yet forty days, and Nineveh will be overthrown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Nineveh Repents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pter 3:5-1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ople believed God, fasted and put on sackclo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ng put on sackcloth and sat in ashes and issued a decre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sees their repentance and relents from the disaster he had planned for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ineveh will now last for about another 100 yea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Jonah Runs Ahead of God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h very angry with God’s decis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 questions Jonah about his attitu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son of the plant and the w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h ready to d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d’s reasoning for saving of 120,000 people of Nineve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1:43:59Z</dcterms:created>
  <dc:creator>John Vines</dc:creator>
  <dc:description/>
  <dc:language>en-US</dc:language>
  <cp:lastModifiedBy>Frank D Vines</cp:lastModifiedBy>
  <dcterms:modified xsi:type="dcterms:W3CDTF">2006-01-04T21:34:12Z</dcterms:modified>
  <cp:revision>30</cp:revision>
  <dc:subject/>
  <dc:title>Jonah the Prophet (the Book of Jonah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